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FC8-8B14-4208-A305-948EC625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004-5808-4F94-A8D4-5D59AB33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CD5-CC70-4DEC-86BC-1D7E1F72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2D1-964E-4CD9-A13E-87E1B88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6D5-11A9-4410-A61A-6D4415C0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C453-F090-4B3E-8702-C4B8FD2B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8064-7C1C-40A7-B126-1A7A09E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AEA8-CEA1-4292-AD54-73471BBA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F873-7474-4DEB-B3B7-B0EB100F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532-F1AA-4559-8E85-3922DF4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A62A-2BA9-4E4C-9A36-0C0ED2C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EBD-AC12-43D7-A07E-EC4BD465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36B-A256-4769-BC82-8393C0B9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4DE-C4B8-4BC3-B954-91692C0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F608-2F31-4CEE-8F53-D80D8E7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B69-0EE2-44AA-B775-BBC1EFF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1BD3-A6BE-4C60-9640-95AEF2F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180-884A-4953-9079-87C0B9E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2E6-34B3-4344-A586-C2843347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B74-4038-42BC-AFC2-8873DD8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DDF-BC90-40C6-941F-B86DA26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3D5-74E6-4C25-9B95-1810B5E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2FD-0C4C-43D5-B6E5-9B00E57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9C5-A01A-4492-8521-8C62378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9A9D-D48F-4100-A794-480C761BCD5B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488-E8B7-4331-968F-CCFD2D0C12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462-48B2-4D2B-AC88-E9BCAF59D14D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6D7-9A34-4630-A645-2F1AF7D19B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979200"/>
            <a:ext cx="8406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„</a:t>
            </a: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Differenzierung und   </a:t>
            </a:r>
            <a:br>
              <a:rPr sz="4000"/>
            </a:b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 Individualisierung“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8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eine Begriffserläuter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1173240" cy="81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SIn Regina Grubich-Müll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AE0-F61D-45BC-93D1-7A836E4A67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C8F7C8-9010-43EF-9180-B75A10DD071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7324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weitere Aspekte der Individualisier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Bedeutung des individuellen Sinns des Lerninhaltes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(Erkenntnis aus der Lerntheorie: Gelernt wird das, was als subjektiv bedeutsam erlebt wird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Antizipation des Lernziels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(SchülerInnen wissen vor der Lernsequenz, was sie lernen soll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Bedeutung kooperativer Prozesse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für erfolgreiches Lernen und die Entwicklung des „Individuums“ SchülerIn (Der Mensch wird am DU zum ICH. – Martin Bu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1AD-3790-47F4-B2DC-1657B9F03B8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242A-FDE0-4BCE-B7D3-FD02004B1D5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3. Differenzierung unter     </a:t>
            </a:r>
            <a:br>
              <a:rPr sz="4000"/>
            </a:b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    Berücksichtigung der     </a:t>
            </a:r>
            <a:br>
              <a:rPr sz="4000"/>
            </a:b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    Individualisieru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didaktische Aufbereitung der Sachebene des Lerninhalts in Bezug auf die jeweiligen Entwicklungsstufen der SchülerIn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Prämisse, den Lerninhalt so aufzubereiten, dass er von jedem/jeder Schüler/in bewältigt werden kan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inteilung in unterschiedliche Leistungsniveaus und die Zuordnung von SchülerInnen zu denselben ist somit obso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B31-87F7-4106-B33C-03EB899139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7AAFF-5DE0-46E7-A672-FA29AE84502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3600" spc="-1" strike="noStrike">
                <a:solidFill>
                  <a:srgbClr val="003366"/>
                </a:solidFill>
                <a:latin typeface="Verdana"/>
              </a:rPr>
              <a:t>Diese Form der Differenzierung ist schülerInnen-zentriert und wäre im Schulalltag wünschenswer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95F-668E-4869-9669-29259D9F25A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263D1-C5DC-4410-80D4-F16687DE685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1.Differenzierung:</a:t>
            </a: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Differenzierung nach Quantitä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identes Lernziel, Menge der Aufgaben wird vari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Differenzierung nach Qualität: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das Lernziel für alle SchülerInnen ist nicht 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C7D-B688-4ADB-8B72-4C3B21902D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B98B-AC4A-48F3-A287-9AE7DA7C5DA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3366"/>
                </a:solidFill>
                <a:latin typeface="Verdana"/>
              </a:rPr>
              <a:t>Formen der Differenzieru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äußere Differenzierung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im Schulsystem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dur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unterschiedliche Schular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(VS, HS, AHS, 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in einer Schulart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durch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räumlich getrennte (Leistungs)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ru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99F-9E41-4975-A89C-0204B24AA6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6A1C4-0535-41F0-B9EF-68B18E049E3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innere Differenzier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3 Leistungsniveaus innerhalb einer Klasse, Aufbereitung des Lerninhalts durch LehrerIn, </a:t>
            </a: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stabile Einteilung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der SchülerInnen, Lösen von *, ** oder *** 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3 Leistungsniveaus innerhalb einer Klasse, Aufbereitung des Lerninhalts durch LehrerIn, </a:t>
            </a: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flexible Einteilung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der SchülerInnen, „Switchen“ zwischen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Niveaus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61C-148B-420A-8744-89B95AD648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DEEAD-6A4D-40F3-9315-D426F7D34B4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7324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Alle bisher angeführten Formen der Differenzierung </a:t>
            </a: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erfolgen auf der Sachebene der Lerninhalte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, ohne dabei auf die Entwicklungsstufen der SchülerInnen der Klasse/Lerngruppe einzuge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ie sind </a:t>
            </a: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lehrerInnen-zentriert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 und im Schulalltag am häufigsten anzutre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1C0-D6F7-422A-9800-8028BBFBBBC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3C0FB-BEDA-4933-8A7C-3C6919745A6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3366"/>
                </a:solidFill>
                <a:latin typeface="Verdana"/>
              </a:rPr>
              <a:t>2. Individualisierung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Individualisierung </a:t>
            </a:r>
            <a:r>
              <a:rPr b="1" lang="de-AT" sz="2800" spc="-1" strike="noStrike">
                <a:solidFill>
                  <a:srgbClr val="003366"/>
                </a:solidFill>
                <a:latin typeface="Verdana"/>
              </a:rPr>
              <a:t>≠</a:t>
            </a: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 individuelle Differen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Unter Individualisierung ist nicht zu verstehen, dass für jede/n einzelne/n SchülerIn ein eigenes Programm/Übungsmaterial,… erstellt wi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4CD-6B07-4BAF-950E-F5AA316E9D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3E085-70C7-4EF9-9128-FEAEEFCCC0C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66"/>
                </a:solidFill>
                <a:latin typeface="Verdana"/>
              </a:rPr>
              <a:t>Individualisierung = Berücksichtigung der Individuallage der Schüler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Unter Individualisierung ist zu verstehen, dass PädagogInnen Überlegungen zu methodischen, personellen, strukturellen und materiellen Hilfestellungen für das „Individuum“ SchülerIn zur Bewältigung des Lerninhaltes anste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B70-8803-4064-9327-9E706C5129F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66A1-34D7-4E61-97C3-D4C62109B1F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7324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methodische Hilfestellungen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Visualisierung von Vorgängen (Bildkarten, Ablaufpläne, Zerlegung von Aufgaben in Teilschritte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personelle Hilfestellungen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TutorInnen, LernbegleiterInnen, Assistenzen,… (Nutzung der Ressourcen innerhalb der SchülerInnen-Grup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975-7415-4DC3-8791-33FE5DF4AA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98109-FBAE-4EAB-802C-7CFFF6B9ED9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strukturelle Hilfestellungen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Tagespläne, Wochenpläne, Zeitschienen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Verdana"/>
              </a:rPr>
              <a:t>materielle Hilfestellungen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Lernkarteien, Umwandlungstabellen, Taschenrechner, Wörterbüch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395-A26B-4970-87A4-3AD18DD1905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BE743-0791-4F9D-B644-DB699F5817F2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10-25T10:14:45Z</dcterms:modified>
  <cp:revision>61</cp:revision>
  <dc:subject/>
  <dc:title>PowerPoint Presentation</dc:title>
</cp:coreProperties>
</file>