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5596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6AC0-42D5-4CE4-AFEE-08209B8230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0449-EBA0-441F-AD8B-0ACE664F8D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9AD-1550-449B-847E-F5DD4DDF967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E554-DA5B-4662-9CF5-C1509E460E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154-3F88-4B42-A435-C9AD99121D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83F-6867-480E-B37E-1FFBA4F7A4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869-194A-4943-984B-0790F38D5B7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16C3235-8655-4820-894B-AF8D29A62E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38D9-866B-4E93-9A33-8AF687E759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ED8-2E73-4DAD-B0E8-D0A1C0B341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DF5-61C1-486C-9A34-9E943BE891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8FF3-2D36-4C1A-ABC2-218480DC2A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407-1539-4009-8644-94737F6B8A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E28-6025-4181-97C1-9CC7F637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847-0FBC-43A7-A933-2F420BE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25F-0CA2-45E8-9A46-38C8E9EC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D7C-0C5D-4906-A3E2-783BAAA2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BD5-193B-4A8E-A766-3C63BF4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F2B-7B48-420D-8C40-87FCC2F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B79-9160-4F8E-B4F0-05B6831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A08-94B0-4B2D-9002-5574E926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74A-E602-44CB-BF20-CDC9BDE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9A6-3F5F-491C-9BEB-D749FD8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D37-6B67-405F-9D58-FF83FD7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60B-ADD3-4507-BC5A-FF8649A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t. I/2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F29-F4AD-46E6-BEEA-498C9D919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5410080" y="6265800"/>
          <a:ext cx="3276720" cy="4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65800"/>
                    <a:ext cx="3276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Picture 8" descr="PTS_logo_4C"/>
          <p:cNvPicPr/>
          <p:nvPr/>
        </p:nvPicPr>
        <p:blipFill>
          <a:blip r:embed="rId4"/>
          <a:stretch/>
        </p:blipFill>
        <p:spPr>
          <a:xfrm>
            <a:off x="460440" y="5715000"/>
            <a:ext cx="87948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ußzeilenplatzhalt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t. I/2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Bild 10" descr="PTS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4572000" y="1981080"/>
            <a:ext cx="4495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a0b634"/>
                </a:solidFill>
                <a:latin typeface="Arial"/>
                <a:ea typeface="Osaka"/>
              </a:rPr>
              <a:t>SOAK 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0b634"/>
                </a:solidFill>
                <a:latin typeface="Arial"/>
                <a:ea typeface="Osaka"/>
              </a:rPr>
              <a:t>21. – 22.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0b634"/>
                </a:solidFill>
                <a:latin typeface="Arial"/>
                <a:ea typeface="Osaka"/>
              </a:rPr>
              <a:t>Fügen/Ti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a0b634"/>
                </a:solidFill>
                <a:latin typeface="Arial"/>
                <a:ea typeface="Osaka"/>
              </a:rPr>
              <a:t>BMUKK -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 rot="16200000">
            <a:off x="78487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0b634"/>
                </a:solidFill>
                <a:latin typeface="Arial"/>
                <a:ea typeface="Osaka"/>
              </a:rPr>
              <a:t>pts.schule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05320" y="624852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7"/>
          <p:cNvGraphicFramePr/>
          <p:nvPr/>
        </p:nvGraphicFramePr>
        <p:xfrm>
          <a:off x="5410080" y="6265800"/>
          <a:ext cx="3276720" cy="4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65800"/>
                    <a:ext cx="3276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8"/>
          <p:cNvSpPr/>
          <p:nvPr/>
        </p:nvSpPr>
        <p:spPr>
          <a:xfrm>
            <a:off x="380880" y="6324480"/>
            <a:ext cx="2667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polyaktiv_logo_07"/>
          <p:cNvPicPr/>
          <p:nvPr/>
        </p:nvPicPr>
        <p:blipFill>
          <a:blip r:embed="rId4"/>
          <a:stretch/>
        </p:blipFill>
        <p:spPr>
          <a:xfrm>
            <a:off x="609480" y="6248520"/>
            <a:ext cx="1844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t. I/2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uelle  PTS - Th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isierung und Kompetenzorien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ufsorientierung, Berufsvorbereitung, Berufsf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ördern und For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Leistungsniveaus  (N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Lernf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tungs- und Kompetenzbeschrei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OLYaktiv   -  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www.polyaktiv.a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H – Vertreter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TS-Homepage   -  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www.pts.schule.a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achbereichsleiter  (Bund / 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ttbewe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ort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Öffentlichkeits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andes-ARGE / Bezirks-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rganisationsstrukturen / bw. K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ußzeilenplatzhalter 3"/>
          <p:cNvSpPr/>
          <p:nvPr/>
        </p:nvSpPr>
        <p:spPr>
          <a:xfrm>
            <a:off x="3124080" y="6245280"/>
            <a:ext cx="152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106668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trategiegruppe (Schulaufsi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OLY ak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ttbewe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örderpr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terpädagogika  (Salzburg, 22.-24.Nov.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Öffentlichkeitsarbeit (Präsentationsmappen,  Plakat, Log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ktivitäten /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ußzeilenplatzhalt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t. I/2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ild 10" descr="PTS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4572000" y="1981080"/>
            <a:ext cx="4495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a0b634"/>
                </a:solidFill>
                <a:latin typeface="Arial"/>
                <a:ea typeface="Osaka"/>
              </a:rPr>
              <a:t>DANK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0b634"/>
                </a:solidFill>
                <a:latin typeface="Arial"/>
                <a:ea typeface="Osaka"/>
              </a:rPr>
              <a:t>Diskussion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0b634"/>
                </a:solidFill>
                <a:latin typeface="Arial"/>
                <a:ea typeface="Osaka"/>
              </a:rPr>
              <a:t>Anr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 rot="16200000">
            <a:off x="78487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0b634"/>
                </a:solidFill>
                <a:latin typeface="Arial"/>
                <a:ea typeface="Osaka"/>
              </a:rPr>
              <a:t>pts.schule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05320" y="624852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5410080" y="6248520"/>
          <a:ext cx="3276720" cy="44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48520"/>
                    <a:ext cx="32767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7"/>
          <p:cNvSpPr/>
          <p:nvPr/>
        </p:nvSpPr>
        <p:spPr>
          <a:xfrm>
            <a:off x="380880" y="6324480"/>
            <a:ext cx="2667240" cy="366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polyaktiv_logo_07"/>
          <p:cNvPicPr/>
          <p:nvPr/>
        </p:nvPicPr>
        <p:blipFill>
          <a:blip r:embed="rId4"/>
          <a:stretch/>
        </p:blipFill>
        <p:spPr>
          <a:xfrm>
            <a:off x="609480" y="6248520"/>
            <a:ext cx="1844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1493640"/>
            <a:ext cx="8234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AT" sz="3800" spc="-1" strike="noStrike">
                <a:solidFill>
                  <a:srgbClr val="000000"/>
                </a:solidFill>
                <a:latin typeface="Arial"/>
              </a:rPr>
              <a:t>Mit der Erarbeitung von Strategien und Modellen zu einer Neuorientie-rung der 9. Schulstufe, mit dem besonderen Fokus auf die </a:t>
            </a:r>
            <a:r>
              <a:rPr b="1" i="1" lang="de-AT" sz="3800" spc="-1" strike="noStrike">
                <a:solidFill>
                  <a:srgbClr val="000000"/>
                </a:solidFill>
                <a:latin typeface="Arial"/>
              </a:rPr>
              <a:t>Attrak-tivierung der Polytechnischen Schule</a:t>
            </a:r>
            <a:r>
              <a:rPr b="0" i="1" lang="de-AT" sz="3800" spc="-1" strike="noStrike">
                <a:solidFill>
                  <a:srgbClr val="000000"/>
                </a:solidFill>
                <a:latin typeface="Arial"/>
              </a:rPr>
              <a:t> soll eine ExpertInnenkom-mission beauftragt werden.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00"/>
                </a:solidFill>
                <a:latin typeface="Arial"/>
              </a:rPr>
              <a:t>Regierungsprogramm</a:t>
            </a:r>
            <a:br>
              <a:rPr sz="4000"/>
            </a:b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(Bildung / Pkt. 6 Bildungsgaran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>
            <a:hlinkClick r:id="rId1" action="ppaction://hlinksldjump"/>
          </p:cNvPr>
          <p:cNvSpPr/>
          <p:nvPr/>
        </p:nvSpPr>
        <p:spPr>
          <a:xfrm>
            <a:off x="7162920" y="55627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bw-Studie „Reformoptionen…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eistungsschwächere Schüler/innen sind primär in der PTS, der Lehre und in den BM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blematisch ist die Konzeption der Schnittstel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überwiegende Mehrheit der Schüler/innen absolviert die Schulpflicht in den ersten Klassen der weiterführenden Schulen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lare Trennlinie zwischen Pflichtschulzeit und weiterführendem Bildungswesen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em Bildungsabschluss („Mittlere Reife“) könnte eine unterstützende Funktion zukommen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162920" y="55627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492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Individualisierung und Differenz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mittlung von persönlichen Kompetenzen und S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TS-Lehreinstieg-Standards (Grundkompetenz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ertifizierte &amp; standardisierte Pflichtschul - Abschlussprüf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sammenarbeit mit externen Institu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bereitung (Grundlagen) für „Lehre mit Matura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reiwilliges 2. PTS –Jahr (10. Schuljahr) – Berufseinstiegsjah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-, Fort- und Weiterbild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 effizienter Unterstützungssysteme (Clearing, Sozialarbeiter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bewertung der PTS-Schulleiter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mensänd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Wiener Papier 2010“ - DirektorInnenkonfe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7162920" y="54864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TS-Lehrplan / Adap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8640" y="129528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gemeines Bildungsz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gemeine Bestimmungen und Schulautonome Lehrplanbestimm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ndenta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gemeine didaktische Grundsä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ungs- und Lehrauf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zedere: Inhaltliche Ausarbeitung – Formulierung – Begutachtung - Unterzeichnung (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1" action="ppaction://hlinksldjump"/>
          </p:cNvPr>
          <p:cNvSpPr/>
          <p:nvPr/>
        </p:nvSpPr>
        <p:spPr>
          <a:xfrm>
            <a:off x="7162920" y="54864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Zahlen und Fakten</a:t>
            </a:r>
            <a:br>
              <a:rPr sz="4000"/>
            </a:b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(Quelle: Statistik Aust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4" name="Diagramm 6" descr=""/>
          <p:cNvPicPr/>
          <p:nvPr/>
        </p:nvPicPr>
        <p:blipFill>
          <a:blip r:embed="rId2"/>
          <a:stretch/>
        </p:blipFill>
        <p:spPr>
          <a:xfrm>
            <a:off x="927000" y="914400"/>
            <a:ext cx="70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Zahlen und Fakten</a:t>
            </a:r>
            <a:br>
              <a:rPr sz="4000"/>
            </a:b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(Quelle: Statistik Aust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nhaltsplatzhalter 7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08800" cy="4797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7"/>
          <p:cNvSpPr/>
          <p:nvPr/>
        </p:nvSpPr>
        <p:spPr>
          <a:xfrm>
            <a:off x="7848720" y="2057400"/>
            <a:ext cx="1066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8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Zahlen und Fakten</a:t>
            </a:r>
            <a:br>
              <a:rPr sz="4000"/>
            </a:b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(Quelle: Statistik Aust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nhaltsplatzhalter 6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15238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TS – Leistungsbilanz (Grundlage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nalyse –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BW Studie 2011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2000" spc="-1" strike="noStrike" u="sng">
                <a:solidFill>
                  <a:srgbClr val="000000"/>
                </a:solidFill>
                <a:uFillTx/>
                <a:latin typeface="Arial"/>
              </a:rPr>
              <a:t>Reformoptionen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für Übergang Sek. II“;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tudi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000"/>
            </a:br>
            <a:br>
              <a:rPr sz="12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bw.at/de/ibw-studien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olie</a:t>
            </a:r>
            <a:r>
              <a:rPr b="0" lang="de-AT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ttraktivierung der PTS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Foli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Wiener Papi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(Grundlage St. Kathrein)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olie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und weitere Grundsatzpapi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aßnitzhöhe  -  Slbg. Höllenpapier  - OÖ-Welser Pa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Reform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tegration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(BGBl. 9   v.  14.2.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TS-Lehr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ehrplangruppe zu PTS und BVJ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(Ref. Sonderpädagog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dap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ort- und Weiterbil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Reform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75438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80960" y="123660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bote im Land, Region, Bezi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ngebote von PTS-ARGE-Leit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chulartenübergreifende Angeb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06520" y="2286000"/>
            <a:ext cx="822960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e Angeb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TS-Sommerakademie (POLYak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TS-spezifische Themen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auf Anregung von ExpertInnen; nach zeitgerechter inhaltl. und budgetärer Plan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llgemeine Themenbereiche (Integration, Literacy, Methodik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46120" y="41940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ntegration; Individualisierung; Berufsorientierung; Kooperation mit Berufsschule, mit der Wirtschaft;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TS - Fort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ußzeilenplatzhalter 3"/>
          <p:cNvSpPr/>
          <p:nvPr/>
        </p:nvSpPr>
        <p:spPr>
          <a:xfrm>
            <a:off x="3124080" y="6245280"/>
            <a:ext cx="152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. I/2a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t. I/2 - Ha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TS-Lehramt /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Bachelorstu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achbereichsausbildung an  7 PH Stand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 u="sng">
                <a:solidFill>
                  <a:srgbClr val="000000"/>
                </a:solidFill>
                <a:uFillTx/>
                <a:latin typeface="Arial"/>
              </a:rPr>
              <a:t>Berufsbegleitend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Erstausbil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180 ECTS Curriculum / 120 anreche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undlage (HCV § 11) Mathematik, Deutsch oder Leb. Fremdsp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nrechnungen (§ 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helorarb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undlagen der PTS“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TS  / 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2680" y="1211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Lehrgang „Grundlagen der PT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rganisation: PH Kärnten u. Steiermark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abine Fritz / Willi Joch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Präsenzphase </a:t>
            </a: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i="1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99cc00"/>
                </a:solidFill>
                <a:latin typeface="Arial"/>
              </a:rPr>
              <a:t>Onlinephas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333399"/>
                </a:solidFill>
                <a:latin typeface="Arial"/>
              </a:rPr>
              <a:t>Individualphas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Präsenzphasen</a:t>
            </a: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de-AT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i="1" lang="de-AT" sz="24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13:00Z</dcterms:created>
  <dc:creator>Haiderf</dc:creator>
  <dc:description/>
  <dc:language>en-US</dc:language>
  <cp:lastModifiedBy>Franz</cp:lastModifiedBy>
  <cp:lastPrinted>2011-08-24T10:39:30Z</cp:lastPrinted>
  <dcterms:modified xsi:type="dcterms:W3CDTF">2012-08-21T07:22:19Z</dcterms:modified>
  <cp:revision>95</cp:revision>
  <dc:subject/>
  <dc:title>Bundesforum der Pädagogischen Hochschulen Fort- und Weiterbildung</dc:title>
</cp:coreProperties>
</file>